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D62-B27B-4365-A691-CD15E91A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49D-A776-4F07-AC4C-D6F497B0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1BE-95B6-4ADF-8C57-CB4EC0CC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988-3428-4FBB-8F04-1387C3E1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7891-AFA8-447C-BD14-188B3BD4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1A83-B19D-4FA1-A8CE-7AE2863E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AAD1-A5B1-497B-959E-6DF91B92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7BF-4AC7-4F52-95B6-1DC17D7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A2FC-DB19-49C4-B804-EBC6F32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F19B-3A15-4553-BCD5-F26165FA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23A9-054E-4A3F-8903-7E34AA1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1A0-F97F-47DC-A2DC-455F0CE3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2D6-93B1-4CF8-9F29-53E69F3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CCEB-3945-491D-B853-286CEB0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A6CD-37BA-4DD6-A84E-7746B722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B3CC-4904-417E-BEC1-FDBE20C5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C990-7809-48D8-A4F8-E3F16953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CB7-D19C-46AD-BAF6-4A2ACF5C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8B5-6C76-4928-9A3B-5AD3FACB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499-D498-496B-83E7-A68A978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A68-D9D2-486B-9A57-B6D5A21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177-8385-4F1D-88DF-A87AD6D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3A0-FB6A-481E-92BB-E4F17B8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1CC-CF8B-451E-8A3C-B309F46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2C13-DD0C-4A09-B3B8-09D3413D9E2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BFC9-DF75-430B-964F-A02375A498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d you no that sum kinds of wasps builds nests out of m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Queen be can live for 5 years and lie millions of eggs in her life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ournal #27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f you could create any new class for the school, what would it be?  Why would you want this class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your looking for all As in weightlifting, get information on hand-strengthening exercises at Sports Health five twenty-seven W. Windsor rd. Glendale Cal. 9120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00,000 workers are employed by McDonald’s resturants in the United States and Canada, more than 1 our of every eight Americans has worked in the chain restaurant at some point in lif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ournal #28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mplete the following statement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’m thankful for…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riday Warm-up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610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adverb modifies a verb, an adjective, or another adverb.  An adverb answers the questions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here? When? How?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How much/to what ext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0384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rite five sentences with adverbs that modify verbs.  Write which question about verbs each adverb answers.  Circle the verbs.  Underline the adverb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)  Tommy </a:t>
            </a:r>
            <a:r>
              <a:rPr b="0" lang="en-US" sz="1800" spc="-1" strike="noStrike" u="sng">
                <a:solidFill>
                  <a:srgbClr val="eaeaea"/>
                </a:solidFill>
                <a:uFillTx/>
                <a:latin typeface="Tahoma"/>
              </a:rPr>
              <a:t>quickly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jumped out of the car. 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How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105520"/>
            <a:ext cx="838080" cy="4572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7:32Z</dcterms:created>
  <dc:creator>tpagel</dc:creator>
  <dc:description/>
  <dc:language>en-US</dc:language>
  <cp:lastModifiedBy>tpagel</cp:lastModifiedBy>
  <dcterms:modified xsi:type="dcterms:W3CDTF">2010-06-03T16:58:02Z</dcterms:modified>
  <cp:revision>1</cp:revision>
  <dc:subject/>
  <dc:title>Warm-Up Sentences</dc:title>
</cp:coreProperties>
</file>